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723D2-FBA8-4D21-BC86-2D7405E31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B6BD-61ED-4DBD-82B6-C4B984688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6C7E-584F-4A82-9CF5-D7DDD60A3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B6D5-57A1-403B-A5F3-E35CD0EDF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16E05-DC6A-4F48-B720-E57731B7B4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A5A9D-2C58-4CEC-B519-F1B1BF2C16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DD634-AB12-4F43-B0EA-E34F4AFE08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AE53F-3EC4-4E5A-A13F-AF54CBDF8F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5A519-DF5A-484A-850C-CE93D9BFB1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98280"/>
            <a:ext cx="8229600" cy="69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02429-F011-483D-8FC7-89B24CFC34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F2FD1-5AB0-43A8-B951-44F1268BF0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6893-8454-4E44-93E5-0DB03D22B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A33FC-20FE-4B46-9C4F-EFFB0E5636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0A241-6C8B-4EEE-B252-68AE04F9B3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4C44A-430A-4A38-8F13-217134276C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3A6B6-7613-4EDF-874E-9D65F93F72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D267D-AA9D-4F6F-A932-46E65A6358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9947-3921-4472-8D7F-03E8EE27B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CE911-C660-4115-9C12-2EEF6A475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83E5-11FE-4800-94E8-79CF61CB8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8280"/>
            <a:ext cx="8229600" cy="696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4BFC-AB8C-4CE3-A93D-7E39065B9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063C-04BB-42A2-A436-122055ED1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C04E0-CFB2-437E-A0B8-1ADA678F0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3143-4B71-4C37-9090-4E5BF2DC6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3939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SzPct val="8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700"/>
              </a:spcBef>
              <a:buClr>
                <a:srgbClr val="000000"/>
              </a:buClr>
              <a:buSzPct val="88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700"/>
              </a:spcBef>
              <a:buClr>
                <a:srgbClr val="000000"/>
              </a:buClr>
              <a:buSzPct val="88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700"/>
              </a:spcBef>
              <a:buClr>
                <a:srgbClr val="000000"/>
              </a:buClr>
              <a:buSzPct val="88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700"/>
              </a:spcBef>
              <a:buClr>
                <a:srgbClr val="000000"/>
              </a:buClr>
              <a:buSzPct val="88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75400" y="6421320"/>
            <a:ext cx="2844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3D7C-EFE4-4C2C-9869-82CFA70AF3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3939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SzPct val="8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28600">
              <a:spcBef>
                <a:spcPts val="700"/>
              </a:spcBef>
              <a:buClr>
                <a:srgbClr val="000000"/>
              </a:buClr>
              <a:buSzPct val="88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44720" indent="-228600">
              <a:spcBef>
                <a:spcPts val="700"/>
              </a:spcBef>
              <a:buClr>
                <a:srgbClr val="000000"/>
              </a:buClr>
              <a:buSzPct val="88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44720" indent="-228600">
              <a:spcBef>
                <a:spcPts val="700"/>
              </a:spcBef>
              <a:buClr>
                <a:srgbClr val="000000"/>
              </a:buClr>
              <a:buSzPct val="88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44720" indent="-228600">
              <a:spcBef>
                <a:spcPts val="700"/>
              </a:spcBef>
              <a:buClr>
                <a:srgbClr val="000000"/>
              </a:buClr>
              <a:buSzPct val="88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475400" y="6421320"/>
            <a:ext cx="2844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2447-0E2B-49DE-832A-AA25C87EE3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3939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0760" cy="6856560"/>
            <a:chOff x="0" y="0"/>
            <a:chExt cx="9140760" cy="6856560"/>
          </a:xfrm>
        </p:grpSpPr>
        <p:sp>
          <p:nvSpPr>
            <p:cNvPr id="79" name="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8c8c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7a7a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383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7c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393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5" name="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9b9b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788080" y="4437360"/>
                <a:ext cx="3352680" cy="1103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38280" y="838080"/>
            <a:ext cx="393696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3939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9140760" cy="6856560"/>
            <a:chOff x="0" y="0"/>
            <a:chExt cx="9140760" cy="6856560"/>
          </a:xfrm>
        </p:grpSpPr>
        <p:sp>
          <p:nvSpPr>
            <p:cNvPr id="121" name="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8c8c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7a7a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383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7c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393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57" name="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9b9b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788080" y="4437360"/>
                <a:ext cx="3352680" cy="1103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What is the Magna Car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Means “Great Char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Series of written promises between the king and his sub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An attempt by the Barons of England to stop their King from abusing his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First issued in the year 12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3939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40760" cy="6856560"/>
            <a:chOff x="0" y="0"/>
            <a:chExt cx="9140760" cy="6856560"/>
          </a:xfrm>
        </p:grpSpPr>
        <p:sp>
          <p:nvSpPr>
            <p:cNvPr id="162" name="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8c8c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7a7a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383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7c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393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9b9b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88080" y="4437360"/>
                <a:ext cx="3352680" cy="1103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King John’s Mistake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1600200"/>
            <a:ext cx="407664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He wasn’t successful in his military campaig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Lucida Grande"/>
                <a:ea typeface="Lucida Grande"/>
              </a:rPr>
              <a:t>Constant demand for more mone</a:t>
            </a: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n 1204 he lost his land to Northern Fr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He then introduced higher taxes with out asking the Ba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hat was against the law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304920" y="1600200"/>
            <a:ext cx="3870360" cy="44956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3939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0" y="0"/>
            <a:ext cx="9140760" cy="6856560"/>
            <a:chOff x="0" y="0"/>
            <a:chExt cx="9140760" cy="6856560"/>
          </a:xfrm>
        </p:grpSpPr>
        <p:sp>
          <p:nvSpPr>
            <p:cNvPr id="205" name="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8c8c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7a7a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383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7c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393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9b9b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788080" y="4437360"/>
                <a:ext cx="3352680" cy="1103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Because of King John’s behavior the Pope banned all church services in England in 1207 (1214 church services started ag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1214: John tried to go after Northern France, he demanded more money from taxes but the Barons said 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7315200" y="4921200"/>
            <a:ext cx="1701720" cy="1936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152280" y="73080"/>
            <a:ext cx="1478160" cy="1527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3939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"/>
          <p:cNvGrpSpPr/>
          <p:nvPr/>
        </p:nvGrpSpPr>
        <p:grpSpPr>
          <a:xfrm>
            <a:off x="0" y="0"/>
            <a:ext cx="9140760" cy="6856560"/>
            <a:chOff x="0" y="0"/>
            <a:chExt cx="9140760" cy="6856560"/>
          </a:xfrm>
        </p:grpSpPr>
        <p:sp>
          <p:nvSpPr>
            <p:cNvPr id="247" name="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8c8c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7a7a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383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7c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393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3" name="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9b9b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788080" y="4437360"/>
                <a:ext cx="3352680" cy="1103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-128520"/>
            <a:ext cx="882648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About the Magna Cart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20480"/>
            <a:ext cx="5029200" cy="55753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It promised that laws would be good and f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Everyone will have access to courts-cost= no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No imprisonment without fair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5410080" y="1905120"/>
            <a:ext cx="3372120" cy="31716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3939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0" y="0"/>
            <a:ext cx="9140760" cy="6856560"/>
            <a:chOff x="0" y="0"/>
            <a:chExt cx="9140760" cy="6856560"/>
          </a:xfrm>
        </p:grpSpPr>
        <p:sp>
          <p:nvSpPr>
            <p:cNvPr id="289" name="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8c8c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a7a7a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1d1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b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393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383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a2a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b9b9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7c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393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9b9b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9c9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25" name="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9b9b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788080" y="4437360"/>
                <a:ext cx="3352680" cy="1103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98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The Baron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Twenty five barons made sure the King carried out the Magna Carta fair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If the King did not the Barons could use force if nee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3454560" y="485136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25560" y="4915080"/>
            <a:ext cx="3200400" cy="24508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6095880" y="4648320"/>
            <a:ext cx="3048120" cy="1993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T Services</dc:creator>
  <dc:description/>
  <dc:language>en-US</dc:language>
  <cp:lastModifiedBy/>
  <cp:revision>0</cp:revision>
  <dc:subject/>
  <dc:title>Magna Carta</dc:title>
</cp:coreProperties>
</file>